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87CE-34E2-4755-BF84-2E6A19339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CF12-BC49-4125-BFFD-A229FA0A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3AFFB4-96F4-4E8A-A627-B17DABE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4CEF15-6EA2-4C12-BB24-7D974F5D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E73B2-7BE2-4A4A-AF35-BE7982BA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30432-D64F-419F-9B2B-C84E0BDE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80A31F-A845-4863-81A2-29EE5C83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DC4DB-9F94-4260-BF06-76082D17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755E0-1235-4384-9A08-8049E795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A7956-F2AD-45FD-8A5C-FA65EA9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7BDD1A-7CC3-46BE-A37B-76B0521F4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52DE-C8E4-442C-9EA5-6A990F3CD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E88F-4571-42BF-97E6-76886090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E1E4-573E-4AC9-AD49-4C90D16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8C5F-1A91-4AF7-A9E9-304C07BA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893D-73A4-4B5C-8950-1BEAE9CC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147D-7DE1-49DD-A76A-A38E0272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406D-15EB-4BA2-937E-0C8CC14C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7605-46FD-4529-A93D-7575F61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C26A2-2A4F-4779-884F-E817B11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4C36D-23BD-47A8-821B-E8261995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6781-96FA-4758-ABEE-60C91F09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BF9DB-26EA-4941-A438-8A6BE040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0754-B8B7-4395-B55B-7521397E4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9E31-5E70-49B0-8892-B8D188AAC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3A220E-E5BA-4D2F-8E5F-9B2A19682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B3F64-FD6F-4B5B-80B6-EF8A6A5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F0A82-D7F3-4F51-8010-C35B27C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D5B0B-2183-47D0-9A98-21FCB14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5B91E-C985-4748-BC9A-B010D8E5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6FF57-20D5-45FD-B0F1-D148D021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CAB68-7DAE-4D66-A994-DADE9BE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A48F4-04E2-40E2-A1A3-C4113C67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31A6E6-1CAD-497A-970D-0ECE8921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EDC52-C2D3-4EC7-BFA2-52A2F384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68AA7-27EA-4B87-B52E-FBF36401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D4222-0FB5-40C4-B27F-A68813F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5B7B6-B860-4B90-8D80-ECC95795C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F4A03-AB80-4B71-86BD-B4FE294888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C871F-EE00-4855-A006-43D749DD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280FD-5F46-4315-A930-6128E11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CC031-19D9-4D50-9C7F-19B53EF8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FEA4EE-CDCF-4486-B402-3290869B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FA060-2B35-4FA1-BE09-6E16CA19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F1A9F-2D76-45A0-B933-8482BDF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DBC29-49F8-4225-80ED-8C5948D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4901B-7998-4488-8BC8-29C4461E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A6252-3F9A-400C-A8A5-7B0668F0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8AE3A-26E0-4057-92BB-917F0ADB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E41A6-5ED2-4ACF-8A0F-B9029DA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15445-3735-4CC4-A7AC-47748071B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12AD5-1269-4855-9D2B-4CD192A76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B92EA-0749-4FC4-878D-6384B3ED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725E-B27A-4B58-9098-9CA2097E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0FDBB-B64C-44E8-AD75-3E7B5D1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21A52-41DD-4986-9BBF-9BAE467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492AE-12A0-466B-B0DD-9E93F956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4E982-A38F-4181-8A09-55E41B98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8B2C1-B4CC-4E01-A044-3ABC307F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02401-9973-4DE1-95AF-CBBECB60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A4DE6-9EC1-47B5-B2F7-C4E6E59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41B49-C81E-4320-BE03-B3607C1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A26D9-113D-4982-8F81-363F922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AD82D-7313-4EFF-8B14-30688ADBA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8F9C9-874F-49FB-8627-FE5A0A28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DC04A-1799-4BA3-9CF4-2A554B94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7B6C8-EE98-4E30-9389-AEEE10B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FFC12-01E8-4CB6-9C75-7E829BAA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F211A-B79B-4B98-B03D-860AA521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FC142-2A41-4BB7-917A-68FDAD2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FB474-D384-4BCF-AFCF-F753628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C7B80-D70C-4304-A621-49D47C4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2E8C-67DE-42B4-B350-79250AEF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8F47-E210-40CE-A8E7-5EB0309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D127E-E267-4682-82C4-2E5A6232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E3C4-8E40-4055-BE88-044B7280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9A76B-21F5-43AA-9FE5-2C1F49F3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C28EA-13E1-41A9-A695-16CDBE42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B5C21-D310-4B83-86A3-5B17DC03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36A10-F912-409D-9061-4CF29C83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858E3-B693-436C-9F7E-8B68ECBA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8A921-64AF-47C6-BECA-52671C2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39551-E893-4F50-8A24-E2B23741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37F10-BACD-4DD3-8B40-22FE158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00274-906E-4E50-A984-07FBE4D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D47DB-CCC2-4B8B-8A18-9FB37183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B9D0-7DE0-4F64-B78A-E18D487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FAD39-D4CA-4AFE-B609-AD62C7C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E5035-9926-4EBA-B640-80DC00BF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3FCD2-137B-4B98-86DC-9DD23D7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00FF3-D982-44A1-AE75-950D1691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7D7F-23A8-4A8D-9E69-57420103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8D195-8A95-4648-8650-6D0E768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C8A79-9339-477A-9EFD-6A7D6D0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3E127-F17A-44CA-B1B4-D29EA36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59A4B-F043-43EB-BF2F-0CE7B286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3B7CE-4BB6-44DF-9D27-AA1DA9A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C019F-41B3-43A9-948C-599ACA3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9239A-DDFC-4D12-A527-E6D0988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2E895-2B5E-43A6-8993-6417EFD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447D-FE21-4786-8180-5700B24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5947E-54B9-4AC7-B99F-91ED226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8364A-95D2-4A93-9F9D-F305F76E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B33D6-A986-4EAF-A444-7AF326EC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B3D9C-7C08-44E4-9B5A-1570DE75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41997-A44D-4218-B853-6537C3A7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C51F7-C548-4D8C-BFB1-FE234C8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70334-B26B-442B-8EFC-B6F37F84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ADE98-7A4D-4F92-A33B-B21F09B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716B6-44EA-46B9-9FF4-1A0C1D5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EAF74-8E56-4E76-B561-F53B6E7D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31ED-3097-468F-B7FA-E904569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47407-2841-4CF8-A867-30D5C0F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FD74B-A880-4C81-902E-D3666E0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D65B8-41AE-478A-9E96-D631AD6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52704-27DF-4540-8634-2B74FA2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E4854-54CE-47DE-AE76-B9ADBAE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EFB25-60B8-4AE9-8B22-C6BCE573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5082A-BCEA-4FCF-9890-3A5FEC77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89D69-D8A1-4B1A-9BA2-BECDE61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4AB9A7-EAB0-4ECB-A33E-A19FF703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4015D-C3AE-468C-A42E-6242CE02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D83A0-75FC-4F76-A832-0A0BD0D3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E8BF8-77E4-4C03-9D4D-E2A9A1F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EE660-3EF1-4632-B215-9608779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92B89-8ED7-485C-9A4B-CAE076E0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38C72-43CD-4786-BAC7-5D5564C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88416-D332-4AD5-BC31-25390BE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B7050-6910-4279-B22A-BA820A25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48F23-96E3-4A52-992E-ADEFF2B7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55303-5697-4244-87E8-B974C163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5F161-1C03-4A97-A9ED-38376F0B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31126-3C57-421B-BA45-7C559BF7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C0CADF-EB09-4ACB-B595-216C13E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B8E31-67C5-4464-8910-9418D79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C4BC0-CBF0-462B-99BF-68CD927C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4DDC1-4758-4F5A-A5B8-037FC02A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92863-ECBB-4754-BB03-88FC9C4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69403-C4C3-4AC9-9471-9EE36F0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A427E-4B9E-47E9-8D6A-F8D1E5A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3A260-CB84-4B46-9DD8-07A97EC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6C227-26C8-4016-9882-12F82FD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4F90B-A069-4B39-84D3-FC5E542E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467B5-ACA1-4987-A48B-9D6C959E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32E19-3C3D-43E9-A726-03626EEF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FB92B-CF68-47F3-9CD2-64DB361F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937BE-6CBF-4336-B10E-473CECF9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86375-8CE0-4532-A40A-E0705BDC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93AE1-77B8-4575-950A-C7E97F1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85B2E-B9FE-471D-86C1-9D412747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1FB00-604D-43FE-8507-7994D30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8E3A3-64A9-4F87-B43F-976AF48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6D0F8-0323-454C-9C4D-232A14E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89572-D2F8-440E-A74F-B8EC40A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92359-3835-4702-BB55-6F621C45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E664C-31D4-4AFA-8143-4F5211DF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78A37-9B00-4B9B-A0AA-96939E6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AC15E-4445-4373-BD6F-B132339A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E39A6-1D65-4E5D-B07E-D07961F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BADBB-7391-4609-A67F-55DF7475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1E717-BB8C-45B8-B56F-5A4275AB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2F7F3-68E0-4F65-A274-51559BC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ED2E5-160C-469B-809D-8DE864D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EC5A3-568A-479F-97FD-A6706BF2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A3493-86A9-45C3-8C24-080BCAB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9C9C1-F1A2-4FF4-BE03-33C1FA34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ACBC7-3B59-4974-BFE3-0D5D9D8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EDD94-A59C-4A83-BFB4-0A27DBDD5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01AAB-6D00-453B-8E14-87924F66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58F58-734A-44DA-A7E3-22136F6C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7197C-565E-4556-9482-78F7F472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56F60-FF7D-44D0-BC0A-2DAC94B0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F2B07-C397-4960-9306-4E670B86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68299-24C3-418E-81C1-351CEDF8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85F7D-2E98-4EE5-A423-A4337A32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859D7-0E61-4F2D-B4F9-D8338FA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0407D-A423-41FA-96E1-EA12E0D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C164B-12B4-4B7A-9173-2889704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7A359-3C92-4D3E-9917-30C48E4C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D48FC1-C7BC-42DF-B74A-29FFA701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C8935-1664-4829-998E-FF34EF0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ACBD1C-5636-4B2E-B35D-AD15AE5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8FC093-51B1-47E3-AC9C-BC20DA4A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3E956-3DD2-4C43-B8C1-0BD8E70E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9CA97-825F-4B48-B5F5-56E2647E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1A69E-494A-41E0-B975-A4135095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904EC-BEE4-4062-B1D7-9CD5F01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F708A5-4587-471F-90D5-579B947E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B2598-76A1-4731-AC3B-7244072A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9C055-D14E-4E85-9250-5468B9BF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097B0-AA7E-42EA-B608-34EC09F5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425C8F-C89F-43EC-8B64-886CF7ED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A5B32-534D-4674-885B-42BC4F4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F1E33C-53FB-44CA-9B91-2A6F8B0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8B26F-BCC3-490E-95E2-30F76F9E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6A5B9-D707-43C4-BED3-48BC613F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A61F9-B699-4D11-A9A7-EF1F2E28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9442B-6008-4BB8-B19D-DA73F9AB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8AB42-1BC5-415E-ABBC-83AB4DBA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8126B9-260B-4684-8299-AA82F993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168C4-AE1A-4B0E-B8A0-59F0D9D9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044FB-B26B-45EA-9FF3-52CBEEA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59F76C-7915-4C42-8166-C540C6DA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8BB15-DD60-481C-A203-CD23AA2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E4E4B-400A-4AC3-AAFE-F1B9AD3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765C6-6156-4D2F-92C1-748240E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36C7F-F558-4B83-8996-35BBA76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828FC-33B9-42A5-8AF9-9AF48EF9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5F060-47C0-4731-8AFB-43758FC6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E731F-558F-4DB6-B7EB-2F3F9E42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8AE27-A7EF-4479-A66B-CDEBE7B5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5E6E-5596-43A9-A278-E8F38F7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595C0-4DBB-48F2-8DB2-AB58A851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C0442-4F2C-4FF1-A9A8-0451A65F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C7AB4E-B92B-4F4F-B182-E1DD65D3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0D9E81-8A10-4D27-AC8A-71AD3A67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4BA00-7BF9-41AE-91E0-65745A80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D0E330-1A1E-49C0-A1A5-DCB4F58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79FFDF-5943-4FD5-A9A9-AA58D532B6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2299-4043-442F-99C6-65E9D917B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5CEE-4AE3-4481-BC3B-649AE287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1E9E-78F3-4F37-972F-CE449FB3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1666-1AB7-47D9-99EC-21D96614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63C1-0843-4858-9840-54BC473A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552A4-4EAF-400A-9914-E473B6BE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1ABF-C8E2-42D8-B5FD-DF854DB6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84F0-76AC-41A4-B34D-1620D962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A5F3-9CDC-4299-932B-F75AE4F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A2E8-8081-4538-9058-1B9C6D59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E4B4-F20E-47E6-B9ED-24F68F8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88BD0-E4F4-42F5-B75B-AFBAA7F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3663-A90F-46D3-A475-E675583570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B51FA-17C1-4E8B-931D-5FB75FBA3C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E306-CD81-49A8-BD9A-58AD5FDC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696CD-6B53-4401-B2BF-B6DF27FC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3097C-7468-49C0-9616-F00BAE74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289D8-55B7-4C0B-9198-B08DF6B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3D357-268B-45FD-BBDC-22DF918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3E977-6FA6-422F-87CC-8EEE4AD6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64CA3-4CB6-4BE6-B5F3-5D51742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16701-600A-4AB5-A10E-99A93863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A5A09-3FAF-45C9-993E-0905BCE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C3A20-733E-4C94-A532-8C73AAA6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42D61-3277-4193-A5B2-119CE91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83E4-C37F-43C0-A7A6-BB6B3874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E9F1A-8BD3-4DA3-81D4-9EAE2B16E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59F94-83D3-43C0-BF73-D9158D520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7FD9E-A711-41E0-B1C3-9801578A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D2723-DC63-4C2A-B0CC-03C9BC3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7EF5A-AC69-4DAC-AE2E-87F287FF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10D44-96CB-44CA-954E-4FEC20CE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3C054-C38C-4C02-AD07-A70568D4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E8651-A8CF-4F0C-9BE8-AF83D9E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9A968-2285-48EC-840D-3F5A8393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D4FDC-1BD6-4035-863E-BEBB8A7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8402-4E07-469D-BED7-FC75ABF7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FEF3DE-B5DB-4ACE-977E-A0B2BBC9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B5DCAF-09E0-4B29-BC8F-FA81F25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51358-E07C-40A2-B9E7-074AEADDE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4375-CE9E-42C5-BD85-4525D40E9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E86CE-2E3B-4E9D-8BB7-609D6BCA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629E-1175-47D3-9274-FA0B3DF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0D3FA-2505-4249-A82E-8B0E67B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D2B4-82E0-4B82-9F91-38E0D396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B80B-53A1-49FD-9FFD-BD8ECE6C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7C59-B402-48F6-9D83-AA6F56B9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1F6D-2D64-41E4-B71F-4D871289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06A7-A380-4C9D-A4D7-EA47017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0092-EC28-4FC5-B4C0-D5D5FAFA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614C9-570F-4592-A8BE-D78F526B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6ACA2-8890-4B66-AABB-EABEE85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0F5E-A8DB-4D39-A2EF-9B90A00F4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68E98-7F4B-43CF-BA04-33B93EDA1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35B01-25CA-4069-8FDE-69D35DB7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555B9-500A-4DBF-AF45-72A1B2F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C98C3-6BB5-4822-BA5B-7F78C75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3F515-9CB1-4201-90B0-8722FA79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FE4A-3F01-4877-8A63-29ED3D6A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4831F-C00A-4601-8F8F-1FB3CB2F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5A5C3-6992-41E5-B81C-16FE9C1D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4701F-CA51-4C0A-8A81-0BED80A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FC9A6-9C64-464C-9976-7E177E39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CD65CF-3681-4364-8432-654DBC75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75034-DB89-4C68-B7AA-823C614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60D63-9FAF-42AC-886E-F20E2DDA3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92588-B6F7-4520-B3AC-A1DC79358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DCB65F-596C-4C75-B4C6-7F1E07C0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2E6DE-7FB2-47FE-A062-6B2EB66A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A200-B5DD-40F0-AC0D-8FE137E17FC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D43D-918C-4253-AFF1-5F85F21E33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2C64-B7A8-4B45-8BB5-2F610B4BE6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E3CB-7A3E-4DE7-AC69-A605416384E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4558-9002-46C6-9BF9-235B0C18C4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6F2E-0EE5-4671-B356-615B6B07BF3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8CF-71E2-44A6-9071-6070DCC166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4C78-A311-47E8-946F-D4B2C9E6B3A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11A-3B14-4F06-8DD7-81E3228F5C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76A-5AA3-4F99-A580-14DCB72591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100-8809-45AC-A3B0-3A804E99A1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BE8-C3EA-49C1-9551-A9BEE702C72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BB60-C3F9-4884-A463-0EDF11239B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B22F-86A4-4FB6-A74F-12A8C0DED0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ACB-D776-416F-A035-FAF413CD38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490D-8CB4-4038-AB1F-B31AED842C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80FC-2461-42DE-91C5-C4A519A265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974-113D-45FE-A539-4AF533860E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FB00-0E09-427E-818F-6741447EF7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EC96-E3C5-430B-BB2E-570028907A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BBF7-5A66-43CC-8B23-229FDE4805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D6BA-73E4-40D9-9F75-97ED6882FC0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0CF-3338-4776-A4C7-FCE1AA136F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E3F2-7D74-48ED-8046-D713812879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4637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922320" y="2666880"/>
            <a:ext cx="754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一 个 因 数 中 间 有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2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5" name="文本框 99"/>
          <p:cNvSpPr/>
          <p:nvPr/>
        </p:nvSpPr>
        <p:spPr>
          <a:xfrm>
            <a:off x="365040" y="952560"/>
            <a:ext cx="66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里填上“＞”“＜”或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2"/>
          <p:cNvSpPr/>
          <p:nvPr/>
        </p:nvSpPr>
        <p:spPr>
          <a:xfrm>
            <a:off x="552600" y="1795320"/>
            <a:ext cx="803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+0○0×0               5×0○5×5         102×3○300+3             800+5○800×5     306×1○306+1             407×5○504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2"/>
          <p:cNvSpPr/>
          <p:nvPr/>
        </p:nvSpPr>
        <p:spPr>
          <a:xfrm>
            <a:off x="1460520" y="2192400"/>
            <a:ext cx="7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文本框 3"/>
          <p:cNvSpPr/>
          <p:nvPr/>
        </p:nvSpPr>
        <p:spPr>
          <a:xfrm>
            <a:off x="5850000" y="223848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文本框 4"/>
          <p:cNvSpPr/>
          <p:nvPr/>
        </p:nvSpPr>
        <p:spPr>
          <a:xfrm>
            <a:off x="1688040" y="3049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6"/>
          <p:cNvSpPr/>
          <p:nvPr/>
        </p:nvSpPr>
        <p:spPr>
          <a:xfrm>
            <a:off x="6111720" y="304956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8"/>
          <p:cNvSpPr/>
          <p:nvPr/>
        </p:nvSpPr>
        <p:spPr>
          <a:xfrm>
            <a:off x="1641600" y="392112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9"/>
          <p:cNvSpPr/>
          <p:nvPr/>
        </p:nvSpPr>
        <p:spPr>
          <a:xfrm>
            <a:off x="6339240" y="392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宋体"/>
                <a:ea typeface="宋体"/>
              </a:rPr>
              <a:t>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47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5" name="文本框 99"/>
          <p:cNvSpPr/>
          <p:nvPr/>
        </p:nvSpPr>
        <p:spPr>
          <a:xfrm>
            <a:off x="279360" y="831960"/>
            <a:ext cx="832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动物园里的一头大象每天要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食物，饲养员一周要为它准备多少千克的食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2"/>
          <p:cNvSpPr/>
          <p:nvPr/>
        </p:nvSpPr>
        <p:spPr>
          <a:xfrm>
            <a:off x="1627200" y="221472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308×7=2156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3"/>
          <p:cNvSpPr/>
          <p:nvPr/>
        </p:nvSpPr>
        <p:spPr>
          <a:xfrm>
            <a:off x="1022400" y="3097080"/>
            <a:ext cx="70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答：饲养员一周要为它准备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2156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千克粮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6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6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0" name="文本框 99"/>
          <p:cNvSpPr/>
          <p:nvPr/>
        </p:nvSpPr>
        <p:spPr>
          <a:xfrm>
            <a:off x="279360" y="996840"/>
            <a:ext cx="8242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一条背带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一件外套的价钱是这条背带裤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买这套衣服共需多少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2"/>
          <p:cNvSpPr/>
          <p:nvPr/>
        </p:nvSpPr>
        <p:spPr>
          <a:xfrm>
            <a:off x="1627200" y="221472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+105×3=420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3"/>
          <p:cNvSpPr/>
          <p:nvPr/>
        </p:nvSpPr>
        <p:spPr>
          <a:xfrm>
            <a:off x="752400" y="3146400"/>
            <a:ext cx="50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答：买这套衣服共需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420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0" name="TextBox 2"/>
          <p:cNvSpPr/>
          <p:nvPr/>
        </p:nvSpPr>
        <p:spPr>
          <a:xfrm>
            <a:off x="1739880" y="1558800"/>
            <a:ext cx="1974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24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4"/>
          <p:cNvSpPr/>
          <p:nvPr/>
        </p:nvSpPr>
        <p:spPr>
          <a:xfrm>
            <a:off x="4656240" y="1558800"/>
            <a:ext cx="1976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13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1068480" y="4222800"/>
            <a:ext cx="72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谁愿意用竖式计算这两道题呢？其他同学在练习本上完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6"/>
          <p:cNvSpPr/>
          <p:nvPr/>
        </p:nvSpPr>
        <p:spPr>
          <a:xfrm>
            <a:off x="1079640" y="4654440"/>
            <a:ext cx="71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说一说你是怎样进行竖式计算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15" descr="u6jx06_2_02"/>
          <p:cNvPicPr/>
          <p:nvPr/>
        </p:nvPicPr>
        <p:blipFill>
          <a:blip r:embed="rId8"/>
          <a:stretch/>
        </p:blipFill>
        <p:spPr>
          <a:xfrm>
            <a:off x="3059280" y="1695600"/>
            <a:ext cx="1288800" cy="3603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6" descr="u6jx06_2_01"/>
          <p:cNvPicPr/>
          <p:nvPr/>
        </p:nvPicPr>
        <p:blipFill>
          <a:blip r:embed="rId9"/>
          <a:stretch/>
        </p:blipFill>
        <p:spPr>
          <a:xfrm>
            <a:off x="1576440" y="2197080"/>
            <a:ext cx="2098800" cy="17985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7" descr="u6jx06_2_03"/>
          <p:cNvPicPr/>
          <p:nvPr/>
        </p:nvPicPr>
        <p:blipFill>
          <a:blip r:embed="rId10"/>
          <a:stretch/>
        </p:blipFill>
        <p:spPr>
          <a:xfrm>
            <a:off x="4303800" y="2135160"/>
            <a:ext cx="2098440" cy="1798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8" descr="u6jx06_2_04"/>
          <p:cNvPicPr/>
          <p:nvPr/>
        </p:nvPicPr>
        <p:blipFill>
          <a:blip r:embed="rId11"/>
          <a:stretch/>
        </p:blipFill>
        <p:spPr>
          <a:xfrm>
            <a:off x="5946840" y="1682640"/>
            <a:ext cx="1284120" cy="358920"/>
          </a:xfrm>
          <a:prstGeom prst="rect">
            <a:avLst/>
          </a:prstGeom>
          <a:ln w="0">
            <a:noFill/>
          </a:ln>
        </p:spPr>
      </p:pic>
      <p:sp>
        <p:nvSpPr>
          <p:cNvPr id="1018" name="TextBox 1"/>
          <p:cNvSpPr/>
          <p:nvPr/>
        </p:nvSpPr>
        <p:spPr>
          <a:xfrm>
            <a:off x="539640" y="900000"/>
            <a:ext cx="547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竖式计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2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1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22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0" name="组合 3"/>
          <p:cNvGrpSpPr/>
          <p:nvPr/>
        </p:nvGrpSpPr>
        <p:grpSpPr>
          <a:xfrm>
            <a:off x="1486080" y="777960"/>
            <a:ext cx="6629040" cy="1501560"/>
            <a:chOff x="1486080" y="777960"/>
            <a:chExt cx="6629040" cy="1501560"/>
          </a:xfrm>
        </p:grpSpPr>
        <p:sp>
          <p:nvSpPr>
            <p:cNvPr id="1031" name="矩形 8"/>
            <p:cNvSpPr/>
            <p:nvPr/>
          </p:nvSpPr>
          <p:spPr>
            <a:xfrm>
              <a:off x="1736280" y="777960"/>
              <a:ext cx="437400" cy="37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2" name="Picture 2" descr="D:\我的文档-桌面-收藏夹\桌面\1774505_110708173000_2副本.jpg"/>
            <p:cNvPicPr/>
            <p:nvPr/>
          </p:nvPicPr>
          <p:blipFill>
            <a:blip r:embed="rId8"/>
            <a:stretch/>
          </p:blipFill>
          <p:spPr>
            <a:xfrm>
              <a:off x="1548000" y="884880"/>
              <a:ext cx="187632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2" descr="D:\我的文档-桌面-收藏夹\桌面\1774505_110708173000_2副本.jpg"/>
            <p:cNvPicPr/>
            <p:nvPr/>
          </p:nvPicPr>
          <p:blipFill>
            <a:blip r:embed="rId9"/>
            <a:stretch/>
          </p:blipFill>
          <p:spPr>
            <a:xfrm>
              <a:off x="3299400" y="831600"/>
              <a:ext cx="193860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2" descr="D:\我的文档-桌面-收藏夹\桌面\1774505_110708173000_2副本.jpg"/>
            <p:cNvPicPr/>
            <p:nvPr/>
          </p:nvPicPr>
          <p:blipFill>
            <a:blip r:embed="rId10"/>
            <a:stretch/>
          </p:blipFill>
          <p:spPr>
            <a:xfrm>
              <a:off x="5175720" y="884880"/>
              <a:ext cx="93780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2" descr="D:\我的文档-桌面-收藏夹\桌面\1774505_110708173000_2副本.jpg"/>
            <p:cNvPicPr/>
            <p:nvPr/>
          </p:nvPicPr>
          <p:blipFill>
            <a:blip r:embed="rId11"/>
            <a:stretch/>
          </p:blipFill>
          <p:spPr>
            <a:xfrm>
              <a:off x="5988960" y="831600"/>
              <a:ext cx="2126160" cy="80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6" name="Picture 2" descr="D:\我的文档-桌面-收藏夹\桌面\1.png"/>
            <p:cNvPicPr/>
            <p:nvPr/>
          </p:nvPicPr>
          <p:blipFill>
            <a:blip r:embed="rId12"/>
            <a:stretch/>
          </p:blipFill>
          <p:spPr>
            <a:xfrm>
              <a:off x="148608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Picture 2" descr="D:\我的文档-桌面-收藏夹\桌面\1.png"/>
            <p:cNvPicPr/>
            <p:nvPr/>
          </p:nvPicPr>
          <p:blipFill>
            <a:blip r:embed="rId13"/>
            <a:stretch/>
          </p:blipFill>
          <p:spPr>
            <a:xfrm>
              <a:off x="236160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2" descr="D:\我的文档-桌面-收藏夹\桌面\1.png"/>
            <p:cNvPicPr/>
            <p:nvPr/>
          </p:nvPicPr>
          <p:blipFill>
            <a:blip r:embed="rId14"/>
            <a:stretch/>
          </p:blipFill>
          <p:spPr>
            <a:xfrm>
              <a:off x="329940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Picture 2" descr="D:\我的文档-桌面-收藏夹\桌面\1.png"/>
            <p:cNvPicPr/>
            <p:nvPr/>
          </p:nvPicPr>
          <p:blipFill>
            <a:blip r:embed="rId15"/>
            <a:stretch/>
          </p:blipFill>
          <p:spPr>
            <a:xfrm>
              <a:off x="423792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2" descr="D:\我的文档-桌面-收藏夹\桌面\1.png"/>
            <p:cNvPicPr/>
            <p:nvPr/>
          </p:nvPicPr>
          <p:blipFill>
            <a:blip r:embed="rId16"/>
            <a:stretch/>
          </p:blipFill>
          <p:spPr>
            <a:xfrm>
              <a:off x="511344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2" descr="D:\我的文档-桌面-收藏夹\桌面\1.png"/>
            <p:cNvPicPr/>
            <p:nvPr/>
          </p:nvPicPr>
          <p:blipFill>
            <a:blip r:embed="rId17"/>
            <a:stretch/>
          </p:blipFill>
          <p:spPr>
            <a:xfrm>
              <a:off x="6009480" y="1741680"/>
              <a:ext cx="97956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2" descr="D:\我的文档-桌面-收藏夹\桌面\1.png"/>
            <p:cNvPicPr/>
            <p:nvPr/>
          </p:nvPicPr>
          <p:blipFill>
            <a:blip r:embed="rId18"/>
            <a:stretch/>
          </p:blipFill>
          <p:spPr>
            <a:xfrm>
              <a:off x="6989760" y="1741680"/>
              <a:ext cx="97920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TextBox 17"/>
          <p:cNvSpPr/>
          <p:nvPr/>
        </p:nvSpPr>
        <p:spPr>
          <a:xfrm>
            <a:off x="2500200" y="3068640"/>
            <a:ext cx="364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+0+0+0+0+0+0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8"/>
          <p:cNvSpPr/>
          <p:nvPr/>
        </p:nvSpPr>
        <p:spPr>
          <a:xfrm>
            <a:off x="2500200" y="3639960"/>
            <a:ext cx="2071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×7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19"/>
          <p:cNvSpPr/>
          <p:nvPr/>
        </p:nvSpPr>
        <p:spPr>
          <a:xfrm>
            <a:off x="5143680" y="3639960"/>
            <a:ext cx="2071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×0=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7"/>
          <p:cNvGrpSpPr/>
          <p:nvPr/>
        </p:nvGrpSpPr>
        <p:grpSpPr>
          <a:xfrm>
            <a:off x="1000080" y="4282920"/>
            <a:ext cx="8143920" cy="857520"/>
            <a:chOff x="1000080" y="4282920"/>
            <a:chExt cx="8143920" cy="857520"/>
          </a:xfrm>
        </p:grpSpPr>
        <p:sp>
          <p:nvSpPr>
            <p:cNvPr id="1047" name="TextBox 20"/>
            <p:cNvSpPr/>
            <p:nvPr/>
          </p:nvSpPr>
          <p:spPr>
            <a:xfrm>
              <a:off x="1000080" y="4282920"/>
              <a:ext cx="8143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想一想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×3=         9×0=         0×0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矩形 21"/>
            <p:cNvSpPr/>
            <p:nvPr/>
          </p:nvSpPr>
          <p:spPr>
            <a:xfrm>
              <a:off x="207144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矩形 22"/>
            <p:cNvSpPr/>
            <p:nvPr/>
          </p:nvSpPr>
          <p:spPr>
            <a:xfrm>
              <a:off x="428616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矩形 23"/>
            <p:cNvSpPr/>
            <p:nvPr/>
          </p:nvSpPr>
          <p:spPr>
            <a:xfrm>
              <a:off x="6572160" y="4568760"/>
              <a:ext cx="571320" cy="571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TextBox 24"/>
          <p:cNvSpPr/>
          <p:nvPr/>
        </p:nvSpPr>
        <p:spPr>
          <a:xfrm>
            <a:off x="2143080" y="4592520"/>
            <a:ext cx="28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5"/>
          <p:cNvSpPr/>
          <p:nvPr/>
        </p:nvSpPr>
        <p:spPr>
          <a:xfrm>
            <a:off x="4357800" y="4592520"/>
            <a:ext cx="28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6"/>
          <p:cNvSpPr/>
          <p:nvPr/>
        </p:nvSpPr>
        <p:spPr>
          <a:xfrm>
            <a:off x="6643800" y="4592520"/>
            <a:ext cx="28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八边形 2"/>
          <p:cNvSpPr/>
          <p:nvPr/>
        </p:nvSpPr>
        <p:spPr>
          <a:xfrm>
            <a:off x="365040" y="97488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8"/>
          <p:cNvGrpSpPr/>
          <p:nvPr/>
        </p:nvGrpSpPr>
        <p:grpSpPr>
          <a:xfrm>
            <a:off x="2203560" y="2279520"/>
            <a:ext cx="5498640" cy="943200"/>
            <a:chOff x="2203560" y="2279520"/>
            <a:chExt cx="5498640" cy="943200"/>
          </a:xfrm>
        </p:grpSpPr>
        <p:sp>
          <p:nvSpPr>
            <p:cNvPr id="1056" name="AutoShape 27"/>
            <p:cNvSpPr/>
            <p:nvPr/>
          </p:nvSpPr>
          <p:spPr>
            <a:xfrm>
              <a:off x="2203560" y="2342880"/>
              <a:ext cx="4237560" cy="542160"/>
            </a:xfrm>
            <a:prstGeom prst="wedgeRoundRectCallout">
              <a:avLst>
                <a:gd name="adj1" fmla="val 57601"/>
                <a:gd name="adj2" fmla="val 192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盘子里一共还有多少个桃子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4" descr="6)5][}VZ%@FXJ)FA]TI76$O"/>
            <p:cNvPicPr/>
            <p:nvPr/>
          </p:nvPicPr>
          <p:blipFill>
            <a:blip r:embed="rId19"/>
            <a:stretch/>
          </p:blipFill>
          <p:spPr>
            <a:xfrm>
              <a:off x="6817320" y="2279520"/>
              <a:ext cx="884880" cy="9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9"/>
          <p:cNvGrpSpPr/>
          <p:nvPr/>
        </p:nvGrpSpPr>
        <p:grpSpPr>
          <a:xfrm>
            <a:off x="2203560" y="5337000"/>
            <a:ext cx="4368600" cy="727200"/>
            <a:chOff x="2203560" y="5337000"/>
            <a:chExt cx="4368600" cy="727200"/>
          </a:xfrm>
        </p:grpSpPr>
        <p:sp>
          <p:nvSpPr>
            <p:cNvPr id="1059" name="AutoShape 27"/>
            <p:cNvSpPr/>
            <p:nvPr/>
          </p:nvSpPr>
          <p:spPr>
            <a:xfrm>
              <a:off x="3143160" y="5414760"/>
              <a:ext cx="3429000" cy="571320"/>
            </a:xfrm>
            <a:prstGeom prst="wedgeRoundRectCallout">
              <a:avLst>
                <a:gd name="adj1" fmla="val -56537"/>
                <a:gd name="adj2" fmla="val -2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任何数相乘都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6" descr="6)5][}VZ%@FXJ)FA]TI76$O"/>
            <p:cNvPicPr/>
            <p:nvPr/>
          </p:nvPicPr>
          <p:blipFill>
            <a:blip r:embed="rId20"/>
            <a:stretch/>
          </p:blipFill>
          <p:spPr>
            <a:xfrm>
              <a:off x="2203560" y="5337000"/>
              <a:ext cx="68256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6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3" name="TextBox 2"/>
          <p:cNvSpPr/>
          <p:nvPr/>
        </p:nvSpPr>
        <p:spPr>
          <a:xfrm>
            <a:off x="441360" y="793800"/>
            <a:ext cx="85312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场的看台分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区，每个区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0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座位。运动场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多少个座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1"/>
          <p:cNvSpPr/>
          <p:nvPr/>
        </p:nvSpPr>
        <p:spPr>
          <a:xfrm>
            <a:off x="1701720" y="1984320"/>
            <a:ext cx="322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0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3146400" y="1890720"/>
            <a:ext cx="177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83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15" descr="u6jx06_9"/>
          <p:cNvPicPr/>
          <p:nvPr/>
        </p:nvPicPr>
        <p:blipFill>
          <a:blip r:embed="rId8"/>
          <a:stretch/>
        </p:blipFill>
        <p:spPr>
          <a:xfrm>
            <a:off x="6130800" y="1604880"/>
            <a:ext cx="2660760" cy="1995480"/>
          </a:xfrm>
          <a:prstGeom prst="rect">
            <a:avLst/>
          </a:prstGeom>
          <a:ln w="0">
            <a:noFill/>
          </a:ln>
        </p:spPr>
      </p:pic>
      <p:sp>
        <p:nvSpPr>
          <p:cNvPr id="1077" name="Text Box 138"/>
          <p:cNvSpPr/>
          <p:nvPr/>
        </p:nvSpPr>
        <p:spPr>
          <a:xfrm>
            <a:off x="3273480" y="4537080"/>
            <a:ext cx="357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6"/>
          <p:cNvGrpSpPr/>
          <p:nvPr/>
        </p:nvGrpSpPr>
        <p:grpSpPr>
          <a:xfrm>
            <a:off x="1773360" y="4033800"/>
            <a:ext cx="2357280" cy="1357200"/>
            <a:chOff x="1773360" y="4033800"/>
            <a:chExt cx="2357280" cy="1357200"/>
          </a:xfrm>
        </p:grpSpPr>
        <p:grpSp>
          <p:nvGrpSpPr>
            <p:cNvPr id="1079" name="Group 133"/>
            <p:cNvGrpSpPr/>
            <p:nvPr/>
          </p:nvGrpSpPr>
          <p:grpSpPr>
            <a:xfrm>
              <a:off x="1954080" y="4033800"/>
              <a:ext cx="2176560" cy="1194120"/>
              <a:chOff x="1954080" y="4033800"/>
              <a:chExt cx="2176560" cy="1194120"/>
            </a:xfrm>
          </p:grpSpPr>
          <p:sp>
            <p:nvSpPr>
              <p:cNvPr id="1080" name="Text Box 134"/>
              <p:cNvSpPr/>
              <p:nvPr/>
            </p:nvSpPr>
            <p:spPr>
              <a:xfrm>
                <a:off x="3409920" y="4753080"/>
                <a:ext cx="3236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Text Box 135"/>
              <p:cNvSpPr/>
              <p:nvPr/>
            </p:nvSpPr>
            <p:spPr>
              <a:xfrm>
                <a:off x="2439720" y="4033800"/>
                <a:ext cx="147024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6  0  4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Text Box 136"/>
              <p:cNvSpPr/>
              <p:nvPr/>
            </p:nvSpPr>
            <p:spPr>
              <a:xfrm>
                <a:off x="1981080" y="4413240"/>
                <a:ext cx="21495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宋体"/>
                  </a:rPr>
                  <a:t>×       8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1954080" y="4819680"/>
                <a:ext cx="1884240" cy="7920"/>
                <a:chOff x="1954080" y="4819680"/>
                <a:chExt cx="1884240" cy="7920"/>
              </a:xfrm>
            </p:grpSpPr>
            <p:sp>
              <p:nvSpPr>
                <p:cNvPr id="1084" name="Line 137"/>
                <p:cNvSpPr/>
                <p:nvPr/>
              </p:nvSpPr>
              <p:spPr>
                <a:xfrm flipV="1">
                  <a:off x="1954080" y="4819680"/>
                  <a:ext cx="1884240" cy="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 txBox="1"/>
                <p:nvPr/>
              </p:nvSpPr>
              <p:spPr>
                <a:xfrm rot="10800000">
                  <a:off x="1954080" y="4819680"/>
                  <a:ext cx="1884240" cy="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8880" bIns="-38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6" name="矩形 13"/>
            <p:cNvSpPr/>
            <p:nvPr/>
          </p:nvSpPr>
          <p:spPr>
            <a:xfrm>
              <a:off x="234468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矩形 14"/>
            <p:cNvSpPr/>
            <p:nvPr/>
          </p:nvSpPr>
          <p:spPr>
            <a:xfrm>
              <a:off x="291636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矩形 15"/>
            <p:cNvSpPr/>
            <p:nvPr/>
          </p:nvSpPr>
          <p:spPr>
            <a:xfrm>
              <a:off x="1773360" y="4890960"/>
              <a:ext cx="500040" cy="500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Rectangle 51"/>
          <p:cNvSpPr/>
          <p:nvPr/>
        </p:nvSpPr>
        <p:spPr>
          <a:xfrm>
            <a:off x="1916280" y="489096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  8   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51"/>
          <p:cNvSpPr/>
          <p:nvPr/>
        </p:nvSpPr>
        <p:spPr>
          <a:xfrm>
            <a:off x="1558800" y="5629320"/>
            <a:ext cx="757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7030a0"/>
                </a:solidFill>
                <a:latin typeface="宋体"/>
                <a:ea typeface="宋体"/>
              </a:rPr>
              <a:t>想：十位上写几？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×8=0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加进上来的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八边形 2"/>
          <p:cNvSpPr/>
          <p:nvPr/>
        </p:nvSpPr>
        <p:spPr>
          <a:xfrm>
            <a:off x="179280" y="7938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组合 3"/>
          <p:cNvGrpSpPr/>
          <p:nvPr/>
        </p:nvGrpSpPr>
        <p:grpSpPr>
          <a:xfrm>
            <a:off x="673200" y="2890800"/>
            <a:ext cx="3965400" cy="1009800"/>
            <a:chOff x="673200" y="2890800"/>
            <a:chExt cx="3965400" cy="1009800"/>
          </a:xfrm>
        </p:grpSpPr>
        <p:sp>
          <p:nvSpPr>
            <p:cNvPr id="1093" name="AutoShape 27"/>
            <p:cNvSpPr/>
            <p:nvPr/>
          </p:nvSpPr>
          <p:spPr>
            <a:xfrm>
              <a:off x="1780560" y="2890800"/>
              <a:ext cx="2858040" cy="92808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1c1c1c"/>
                  </a:solidFill>
                  <a:latin typeface="宋体"/>
                </a:rPr>
                <a:t>6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=48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应该比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800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多一些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4" name="图片 4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73200" y="2957400"/>
              <a:ext cx="885240" cy="9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5" name="组合 8"/>
          <p:cNvGrpSpPr/>
          <p:nvPr/>
        </p:nvGrpSpPr>
        <p:grpSpPr>
          <a:xfrm>
            <a:off x="5059440" y="4390920"/>
            <a:ext cx="3141360" cy="999720"/>
            <a:chOff x="5059440" y="4390920"/>
            <a:chExt cx="3141360" cy="999720"/>
          </a:xfrm>
        </p:grpSpPr>
        <p:sp>
          <p:nvSpPr>
            <p:cNvPr id="1096" name="AutoShape 27"/>
            <p:cNvSpPr/>
            <p:nvPr/>
          </p:nvSpPr>
          <p:spPr>
            <a:xfrm>
              <a:off x="5059440" y="4390920"/>
              <a:ext cx="2215080" cy="77652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哇！原来有这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么多座位呀！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7" name="图片 6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7518240" y="4663080"/>
              <a:ext cx="682560" cy="727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1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2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0" name="文本框 2"/>
          <p:cNvSpPr/>
          <p:nvPr/>
        </p:nvSpPr>
        <p:spPr>
          <a:xfrm>
            <a:off x="2143080" y="762120"/>
            <a:ext cx="39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个因数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文本框 3"/>
          <p:cNvSpPr/>
          <p:nvPr/>
        </p:nvSpPr>
        <p:spPr>
          <a:xfrm>
            <a:off x="739800" y="1279440"/>
            <a:ext cx="34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任何数相乘都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文本框 4"/>
          <p:cNvSpPr/>
          <p:nvPr/>
        </p:nvSpPr>
        <p:spPr>
          <a:xfrm>
            <a:off x="2227320" y="2101680"/>
            <a:ext cx="43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个因数中间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乘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6"/>
          <p:cNvSpPr/>
          <p:nvPr/>
        </p:nvSpPr>
        <p:spPr>
          <a:xfrm>
            <a:off x="533520" y="2619360"/>
            <a:ext cx="71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笔算一个因数中间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乘法，从个位起，用一位数依次去乘多位数每一位上的数，乘到哪一位，积就写在那一位下面。（注意：因数中间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一位数相乘时，要在积的十位上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，如果有进上来的数必须加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4"/>
          <p:cNvSpPr/>
          <p:nvPr/>
        </p:nvSpPr>
        <p:spPr>
          <a:xfrm>
            <a:off x="179280" y="1111320"/>
            <a:ext cx="84297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×2=       5×0=        0×6=        0×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×0=       5+0=        6×0=        0+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13"/>
          <p:cNvSpPr/>
          <p:nvPr/>
        </p:nvSpPr>
        <p:spPr>
          <a:xfrm>
            <a:off x="1940040" y="19368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14"/>
          <p:cNvSpPr/>
          <p:nvPr/>
        </p:nvSpPr>
        <p:spPr>
          <a:xfrm>
            <a:off x="4046400" y="186048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15"/>
          <p:cNvSpPr/>
          <p:nvPr/>
        </p:nvSpPr>
        <p:spPr>
          <a:xfrm>
            <a:off x="6278400" y="270972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16"/>
          <p:cNvSpPr/>
          <p:nvPr/>
        </p:nvSpPr>
        <p:spPr>
          <a:xfrm>
            <a:off x="8494560" y="186048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17"/>
          <p:cNvSpPr/>
          <p:nvPr/>
        </p:nvSpPr>
        <p:spPr>
          <a:xfrm>
            <a:off x="2043000" y="281304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19"/>
          <p:cNvSpPr/>
          <p:nvPr/>
        </p:nvSpPr>
        <p:spPr>
          <a:xfrm>
            <a:off x="6170760" y="186372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0"/>
          <p:cNvSpPr/>
          <p:nvPr/>
        </p:nvSpPr>
        <p:spPr>
          <a:xfrm>
            <a:off x="8494560" y="27097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2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3" name="TextBox 17"/>
          <p:cNvSpPr/>
          <p:nvPr/>
        </p:nvSpPr>
        <p:spPr>
          <a:xfrm>
            <a:off x="3762360" y="2711520"/>
            <a:ext cx="368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组合 21"/>
          <p:cNvGrpSpPr/>
          <p:nvPr/>
        </p:nvGrpSpPr>
        <p:grpSpPr>
          <a:xfrm>
            <a:off x="181080" y="1333440"/>
            <a:ext cx="8429400" cy="2148120"/>
            <a:chOff x="181080" y="1333440"/>
            <a:chExt cx="8429400" cy="2148120"/>
          </a:xfrm>
        </p:grpSpPr>
        <p:sp>
          <p:nvSpPr>
            <p:cNvPr id="1135" name="TextBox 5"/>
            <p:cNvSpPr/>
            <p:nvPr/>
          </p:nvSpPr>
          <p:spPr>
            <a:xfrm>
              <a:off x="181080" y="1333440"/>
              <a:ext cx="842940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    里填上适当的符号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    0=0       0    4=4       0    4=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7    7=0       10    0=0      0    0=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椭圆 6"/>
            <p:cNvSpPr/>
            <p:nvPr/>
          </p:nvSpPr>
          <p:spPr>
            <a:xfrm>
              <a:off x="1038240" y="2087640"/>
              <a:ext cx="392400" cy="507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椭圆 7"/>
            <p:cNvSpPr/>
            <p:nvPr/>
          </p:nvSpPr>
          <p:spPr>
            <a:xfrm>
              <a:off x="3426480" y="2138400"/>
              <a:ext cx="432360" cy="497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椭圆 8"/>
            <p:cNvSpPr/>
            <p:nvPr/>
          </p:nvSpPr>
          <p:spPr>
            <a:xfrm>
              <a:off x="5794560" y="2159280"/>
              <a:ext cx="443520" cy="53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椭圆 9"/>
            <p:cNvSpPr/>
            <p:nvPr/>
          </p:nvSpPr>
          <p:spPr>
            <a:xfrm>
              <a:off x="1000800" y="2866680"/>
              <a:ext cx="475560" cy="579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椭圆 10"/>
            <p:cNvSpPr/>
            <p:nvPr/>
          </p:nvSpPr>
          <p:spPr>
            <a:xfrm>
              <a:off x="3550320" y="2930760"/>
              <a:ext cx="509760" cy="55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椭圆 11"/>
            <p:cNvSpPr/>
            <p:nvPr/>
          </p:nvSpPr>
          <p:spPr>
            <a:xfrm>
              <a:off x="5722560" y="2892600"/>
              <a:ext cx="481680" cy="52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椭圆 12"/>
            <p:cNvSpPr/>
            <p:nvPr/>
          </p:nvSpPr>
          <p:spPr>
            <a:xfrm>
              <a:off x="1170720" y="1371240"/>
              <a:ext cx="439200" cy="53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TextBox 22"/>
          <p:cNvSpPr/>
          <p:nvPr/>
        </p:nvSpPr>
        <p:spPr>
          <a:xfrm>
            <a:off x="982800" y="21178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23"/>
          <p:cNvSpPr/>
          <p:nvPr/>
        </p:nvSpPr>
        <p:spPr>
          <a:xfrm>
            <a:off x="3463920" y="21891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24"/>
          <p:cNvSpPr/>
          <p:nvPr/>
        </p:nvSpPr>
        <p:spPr>
          <a:xfrm>
            <a:off x="5765760" y="21891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25"/>
          <p:cNvSpPr/>
          <p:nvPr/>
        </p:nvSpPr>
        <p:spPr>
          <a:xfrm>
            <a:off x="1055520" y="291780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26"/>
          <p:cNvSpPr/>
          <p:nvPr/>
        </p:nvSpPr>
        <p:spPr>
          <a:xfrm>
            <a:off x="3554280" y="296856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27"/>
          <p:cNvSpPr/>
          <p:nvPr/>
        </p:nvSpPr>
        <p:spPr>
          <a:xfrm>
            <a:off x="5711760" y="28926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30"/>
          <p:cNvSpPr/>
          <p:nvPr/>
        </p:nvSpPr>
        <p:spPr>
          <a:xfrm>
            <a:off x="4753080" y="2930400"/>
            <a:ext cx="3857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最后一题答案不唯一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5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5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组合 2"/>
          <p:cNvGrpSpPr/>
          <p:nvPr/>
        </p:nvGrpSpPr>
        <p:grpSpPr>
          <a:xfrm>
            <a:off x="-36360" y="117360"/>
            <a:ext cx="3244680" cy="525600"/>
            <a:chOff x="-36360" y="117360"/>
            <a:chExt cx="3244680" cy="525600"/>
          </a:xfrm>
        </p:grpSpPr>
        <p:pic>
          <p:nvPicPr>
            <p:cNvPr id="116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14120" y="11736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3" name="组合 4"/>
            <p:cNvGrpSpPr/>
            <p:nvPr/>
          </p:nvGrpSpPr>
          <p:grpSpPr>
            <a:xfrm>
              <a:off x="-36360" y="213120"/>
              <a:ext cx="429840" cy="271800"/>
              <a:chOff x="-36360" y="213120"/>
              <a:chExt cx="429840" cy="271800"/>
            </a:xfrm>
          </p:grpSpPr>
          <p:sp>
            <p:nvSpPr>
              <p:cNvPr id="1164" name="椭圆 2"/>
              <p:cNvSpPr/>
              <p:nvPr/>
            </p:nvSpPr>
            <p:spPr>
              <a:xfrm rot="16200000">
                <a:off x="206640" y="375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1800" y="3394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椭圆 29"/>
              <p:cNvSpPr/>
              <p:nvPr/>
            </p:nvSpPr>
            <p:spPr>
              <a:xfrm rot="16200000">
                <a:off x="206640" y="249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800" y="2275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36360" y="355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27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36360" y="240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36360" y="213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2" name="TextBox 2"/>
          <p:cNvSpPr/>
          <p:nvPr/>
        </p:nvSpPr>
        <p:spPr>
          <a:xfrm>
            <a:off x="142920" y="797040"/>
            <a:ext cx="507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乘得的积填在下面的空格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388800" y="1657440"/>
          <a:ext cx="7572240" cy="257184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081080"/>
                <a:gridCol w="1082880"/>
                <a:gridCol w="1081080"/>
                <a:gridCol w="1082520"/>
                <a:gridCol w="1081080"/>
              </a:tblGrid>
              <a:tr h="1285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×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4" name="TextBox 6"/>
          <p:cNvSpPr/>
          <p:nvPr/>
        </p:nvSpPr>
        <p:spPr>
          <a:xfrm>
            <a:off x="1643040" y="33544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7"/>
          <p:cNvSpPr/>
          <p:nvPr/>
        </p:nvSpPr>
        <p:spPr>
          <a:xfrm>
            <a:off x="2786040" y="33544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8"/>
          <p:cNvSpPr/>
          <p:nvPr/>
        </p:nvSpPr>
        <p:spPr>
          <a:xfrm>
            <a:off x="3857760" y="3354480"/>
            <a:ext cx="785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9"/>
          <p:cNvSpPr/>
          <p:nvPr/>
        </p:nvSpPr>
        <p:spPr>
          <a:xfrm>
            <a:off x="4857840" y="335448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3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10"/>
          <p:cNvSpPr/>
          <p:nvPr/>
        </p:nvSpPr>
        <p:spPr>
          <a:xfrm>
            <a:off x="5929200" y="335448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58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Box 11"/>
          <p:cNvSpPr/>
          <p:nvPr/>
        </p:nvSpPr>
        <p:spPr>
          <a:xfrm>
            <a:off x="7000920" y="335448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62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8"/>
          <p:cNvSpPr/>
          <p:nvPr/>
        </p:nvSpPr>
        <p:spPr>
          <a:xfrm>
            <a:off x="1285920" y="642960"/>
            <a:ext cx="50004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2" name="文本框 99"/>
          <p:cNvSpPr/>
          <p:nvPr/>
        </p:nvSpPr>
        <p:spPr>
          <a:xfrm>
            <a:off x="279360" y="725400"/>
            <a:ext cx="85615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9×4=        605×7=           203×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9×3=        403×6=           508×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组合 24"/>
          <p:cNvGrpSpPr/>
          <p:nvPr/>
        </p:nvGrpSpPr>
        <p:grpSpPr>
          <a:xfrm>
            <a:off x="179280" y="2301840"/>
            <a:ext cx="2436840" cy="1767600"/>
            <a:chOff x="179280" y="2301840"/>
            <a:chExt cx="2436840" cy="1767600"/>
          </a:xfrm>
        </p:grpSpPr>
        <p:sp>
          <p:nvSpPr>
            <p:cNvPr id="1194" name="文本框 11"/>
            <p:cNvSpPr/>
            <p:nvPr/>
          </p:nvSpPr>
          <p:spPr>
            <a:xfrm>
              <a:off x="179280" y="23018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直接连接符 12"/>
            <p:cNvSpPr/>
            <p:nvPr/>
          </p:nvSpPr>
          <p:spPr>
            <a:xfrm>
              <a:off x="366480" y="31831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文本框 13"/>
            <p:cNvSpPr/>
            <p:nvPr/>
          </p:nvSpPr>
          <p:spPr>
            <a:xfrm>
              <a:off x="452880" y="3183120"/>
              <a:ext cx="1575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8 3  6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组合 2"/>
          <p:cNvGrpSpPr/>
          <p:nvPr/>
        </p:nvGrpSpPr>
        <p:grpSpPr>
          <a:xfrm>
            <a:off x="2616120" y="2301840"/>
            <a:ext cx="2435400" cy="1767600"/>
            <a:chOff x="2616120" y="2301840"/>
            <a:chExt cx="2435400" cy="1767600"/>
          </a:xfrm>
        </p:grpSpPr>
        <p:sp>
          <p:nvSpPr>
            <p:cNvPr id="1198" name="文本框 11"/>
            <p:cNvSpPr/>
            <p:nvPr/>
          </p:nvSpPr>
          <p:spPr>
            <a:xfrm>
              <a:off x="2616120" y="230184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0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直接连接符 4"/>
            <p:cNvSpPr/>
            <p:nvPr/>
          </p:nvSpPr>
          <p:spPr>
            <a:xfrm>
              <a:off x="2803320" y="318312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文本框 13"/>
            <p:cNvSpPr/>
            <p:nvPr/>
          </p:nvSpPr>
          <p:spPr>
            <a:xfrm>
              <a:off x="2889720" y="3183120"/>
              <a:ext cx="1574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 2 3  5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8"/>
          <p:cNvGrpSpPr/>
          <p:nvPr/>
        </p:nvGrpSpPr>
        <p:grpSpPr>
          <a:xfrm>
            <a:off x="5854680" y="2197080"/>
            <a:ext cx="2435400" cy="1401840"/>
            <a:chOff x="5854680" y="2197080"/>
            <a:chExt cx="2435400" cy="1401840"/>
          </a:xfrm>
        </p:grpSpPr>
        <p:sp>
          <p:nvSpPr>
            <p:cNvPr id="1202" name="文本框 11"/>
            <p:cNvSpPr/>
            <p:nvPr/>
          </p:nvSpPr>
          <p:spPr>
            <a:xfrm>
              <a:off x="5854680" y="219708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直接连接符 10"/>
            <p:cNvSpPr/>
            <p:nvPr/>
          </p:nvSpPr>
          <p:spPr>
            <a:xfrm>
              <a:off x="6041880" y="307836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文本框 13"/>
            <p:cNvSpPr/>
            <p:nvPr/>
          </p:nvSpPr>
          <p:spPr>
            <a:xfrm>
              <a:off x="6128280" y="3078360"/>
              <a:ext cx="15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  0 9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组合 13"/>
          <p:cNvGrpSpPr/>
          <p:nvPr/>
        </p:nvGrpSpPr>
        <p:grpSpPr>
          <a:xfrm>
            <a:off x="179280" y="4265640"/>
            <a:ext cx="2436840" cy="1401840"/>
            <a:chOff x="179280" y="4265640"/>
            <a:chExt cx="2436840" cy="1401840"/>
          </a:xfrm>
        </p:grpSpPr>
        <p:sp>
          <p:nvSpPr>
            <p:cNvPr id="1206" name="文本框 11"/>
            <p:cNvSpPr/>
            <p:nvPr/>
          </p:nvSpPr>
          <p:spPr>
            <a:xfrm>
              <a:off x="179280" y="42656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5 0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直接连接符 15"/>
            <p:cNvSpPr/>
            <p:nvPr/>
          </p:nvSpPr>
          <p:spPr>
            <a:xfrm>
              <a:off x="366480" y="51469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文本框 13"/>
            <p:cNvSpPr/>
            <p:nvPr/>
          </p:nvSpPr>
          <p:spPr>
            <a:xfrm>
              <a:off x="452880" y="5146920"/>
              <a:ext cx="15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1  5 2 7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组合 17"/>
          <p:cNvGrpSpPr/>
          <p:nvPr/>
        </p:nvGrpSpPr>
        <p:grpSpPr>
          <a:xfrm>
            <a:off x="2705040" y="4265640"/>
            <a:ext cx="2436840" cy="1767600"/>
            <a:chOff x="2705040" y="4265640"/>
            <a:chExt cx="2436840" cy="1767600"/>
          </a:xfrm>
        </p:grpSpPr>
        <p:sp>
          <p:nvSpPr>
            <p:cNvPr id="1210" name="文本框 11"/>
            <p:cNvSpPr/>
            <p:nvPr/>
          </p:nvSpPr>
          <p:spPr>
            <a:xfrm>
              <a:off x="2705040" y="4265640"/>
              <a:ext cx="243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 0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直接连接符 19"/>
            <p:cNvSpPr/>
            <p:nvPr/>
          </p:nvSpPr>
          <p:spPr>
            <a:xfrm>
              <a:off x="2879640" y="5146920"/>
              <a:ext cx="174852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文本框 13"/>
            <p:cNvSpPr/>
            <p:nvPr/>
          </p:nvSpPr>
          <p:spPr>
            <a:xfrm>
              <a:off x="2966040" y="5146920"/>
              <a:ext cx="1575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4 1 8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21"/>
          <p:cNvGrpSpPr/>
          <p:nvPr/>
        </p:nvGrpSpPr>
        <p:grpSpPr>
          <a:xfrm>
            <a:off x="5854680" y="4265640"/>
            <a:ext cx="2435400" cy="1767600"/>
            <a:chOff x="5854680" y="4265640"/>
            <a:chExt cx="2435400" cy="1767600"/>
          </a:xfrm>
        </p:grpSpPr>
        <p:sp>
          <p:nvSpPr>
            <p:cNvPr id="1214" name="文本框 11"/>
            <p:cNvSpPr/>
            <p:nvPr/>
          </p:nvSpPr>
          <p:spPr>
            <a:xfrm>
              <a:off x="5854680" y="4265640"/>
              <a:ext cx="243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5 0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  </a:t>
              </a:r>
              <a:r>
                <a:rPr b="0" lang="zh-CN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×        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直接连接符 23"/>
            <p:cNvSpPr/>
            <p:nvPr/>
          </p:nvSpPr>
          <p:spPr>
            <a:xfrm>
              <a:off x="6041880" y="5146920"/>
              <a:ext cx="1747440" cy="0"/>
            </a:xfrm>
            <a:prstGeom prst="line">
              <a:avLst/>
            </a:prstGeom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文本框 13"/>
            <p:cNvSpPr/>
            <p:nvPr/>
          </p:nvSpPr>
          <p:spPr>
            <a:xfrm>
              <a:off x="6128280" y="5146920"/>
              <a:ext cx="1574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2 0 3 2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文本框 15"/>
          <p:cNvSpPr/>
          <p:nvPr/>
        </p:nvSpPr>
        <p:spPr>
          <a:xfrm>
            <a:off x="1839960" y="15843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8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5"/>
          <p:cNvSpPr/>
          <p:nvPr/>
        </p:nvSpPr>
        <p:spPr>
          <a:xfrm>
            <a:off x="4464000" y="15843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4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5"/>
          <p:cNvSpPr/>
          <p:nvPr/>
        </p:nvSpPr>
        <p:spPr>
          <a:xfrm>
            <a:off x="7578720" y="15843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5"/>
          <p:cNvSpPr/>
          <p:nvPr/>
        </p:nvSpPr>
        <p:spPr>
          <a:xfrm>
            <a:off x="1681200" y="3701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15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5"/>
          <p:cNvSpPr/>
          <p:nvPr/>
        </p:nvSpPr>
        <p:spPr>
          <a:xfrm>
            <a:off x="4346640" y="370188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4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5"/>
          <p:cNvSpPr/>
          <p:nvPr/>
        </p:nvSpPr>
        <p:spPr>
          <a:xfrm>
            <a:off x="7578720" y="3701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0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5:1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